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43F-8D4C-4AD1-A2BD-601B1C12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D2D-0AE2-4C5E-84F3-E9EC37E4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9DD-9172-4662-BE45-265AE5BB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DE1-1A4E-4B81-BA59-E04DF805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39B-9158-4984-B905-556799E1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E4E-0E0B-4731-A562-DEDD8F42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5F1-ABD1-4026-935C-89091BF0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4B6-94A9-4E1A-B476-77297B0D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23E-9F0E-4E9D-AD9E-9ABD2236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95A-6AB6-427F-9BB7-C18E6D6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A9D-53C0-4020-B563-4FB9D6C9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E76-242B-4057-B68F-B110A038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1A2E-F3E6-4F0E-8B59-7FD8908EE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niards and the Pre-Columbian Civ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360" y="59436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Grace Kou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733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tecs, Incas and May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lived in Central Mexico – Valley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capital city was Tenochtitlan, an unusual city because it had been built in the middle of a lake o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 were polytheistic meaning they believed in many G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brought down by Small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used other tribes as slaves and human sacrifice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leader was Montez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orshiped a god named Quetzacoatl (A pale skinned go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3962160" cy="274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72200" y="4724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s lived on the Mexican cost-Yucat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(They believed in many god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ion did not contain as much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slaves, who could sometimes gain their free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asn’t just one major city, it would be much harder for the Spanish to tak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8320" y="6095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.uncw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lived in South America, Andes Mountains, Pe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a capital was Cuz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d no written language, but had spoken language (used knots as messag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polytheistic (They believed in many go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a ruler was Atahual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as where a huge civilization, with about 20 million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as had been easily taken over in 1513 by the Spanish and Pizarro because they had been fighting a civil war, a war when two or more groups of people in the same country, are figh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91120" y="1143000"/>
            <a:ext cx="4647960" cy="4141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z was a Spanish  explorer and conquistador (a person who conquers, or they take over by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going back home impossible, he destroyed all but one ship, that he sent back to C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raveled with 16 horses and around 500 to 650 men to conquer the Aztecs in 15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ook Montezuma hostage, and Montezuma was killed in a battle soon after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943600" y="609480"/>
            <a:ext cx="221760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7220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usf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was a conquistador and a Spanish explo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raveled with about 27 horses, and about 180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kidnapped  Atahualpa and held him for a ransom because he refused to accept Christianity, and the king of Spain as his ru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demanded that a room be filled with silver and gold and then Atahualpa would be retur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ricked the Incas after they presented the ransom, and Atahualpa was soo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210348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15000" y="4114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usf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oday (2011) almost all of Central and South America are speaking Spa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a majority of people in Central and South America are no longer worshiping their native gods, and are now Christ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Maya, Inca and Aztec tradition and culture have disappeared forever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80880"/>
            <a:ext cx="4648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24:33Z</dcterms:created>
  <dc:creator>jklib</dc:creator>
  <dc:description/>
  <dc:language>en-US</dc:language>
  <cp:lastModifiedBy>jklib</cp:lastModifiedBy>
  <dcterms:modified xsi:type="dcterms:W3CDTF">2011-11-29T14:29:20Z</dcterms:modified>
  <cp:revision>16</cp:revision>
  <dc:subject/>
  <dc:title>The Spaniards and the Pre-Columbian Civilization </dc:title>
</cp:coreProperties>
</file>